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20.wmf" ContentType="image/x-wmf"/>
  <Override PartName="/ppt/media/image14.jpeg" ContentType="image/jpeg"/>
  <Override PartName="/ppt/media/image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EA1-952D-473A-90A2-27AC64E2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8D6-67D7-4487-8048-86E3209E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B95-066D-42D0-9950-FD699B2F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38C-4C0B-4D2E-AFD9-CB6375F5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0A72-0579-4A49-B645-BE60CA2F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147A-BEC5-4E65-B7AE-AC961A69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B254-A885-4C0A-A687-01342874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CA29-BB02-4FB1-9B1C-9E95DA24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495C-C3BA-4CBE-BE33-C112E04B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28D4-03E9-4292-9D7B-B586550C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06C8-6F31-49E0-93A6-079EF084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861-9B52-44CF-8E66-F9F1BEC6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17CC-5EA4-42F9-AA12-025D2F16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5F1E-34A4-4876-9D52-43881C52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5FE7-95E3-418A-A6D8-7F8DCE61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F69D-4E3C-42A8-B0E7-C2D6DE9C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ADEB-9517-4A9B-873F-2B3BE657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7AD-8467-439B-B222-7DB83FB9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211-3A13-4082-992D-DCDBFA10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744-0621-40DB-AFE8-17826E20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876-54F2-4D73-BA61-1B7F1757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77F-DE31-4D02-87E1-4B1DAAC6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5F8F-134B-47D5-8472-DB6CB0AA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0FD9-A0D2-4E39-A315-79547204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48627a"/>
              </a:gs>
              <a:gs pos="100000">
                <a:srgbClr val="53718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371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7190-DA00-4B3D-8799-5F3457B71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466886"/>
                </a:gs>
                <a:gs pos="100000">
                  <a:srgbClr val="5371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5f7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b66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48627a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f76"/>
                  </a:gs>
                  <a:gs pos="100000">
                    <a:srgbClr val="5371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667e"/>
                  </a:gs>
                  <a:gs pos="100000">
                    <a:srgbClr val="53718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35c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86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7892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5371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5874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58748f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4d6983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53718c"/>
                  </a:gs>
                  <a:gs pos="100000">
                    <a:srgbClr val="4d69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506d87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6886"/>
                  </a:gs>
                  <a:gs pos="100000">
                    <a:srgbClr val="5371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718c"/>
                  </a:gs>
                  <a:gs pos="100000">
                    <a:srgbClr val="4668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6886"/>
                    </a:gs>
                    <a:gs pos="100000">
                      <a:srgbClr val="53718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718c"/>
                    </a:gs>
                    <a:gs pos="100000">
                      <a:srgbClr val="46688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FBB2-7D31-4B84-A552-F25E09851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3718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97cf2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Realism and Fantas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we will identify whether a story is realistic or fantasy by looking at the cover of the 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186696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421000" cy="173988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73915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647960" cy="37828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21960" y="457200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79400" y="457200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175248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609588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2" action="ppaction://hlinksldjump"/>
          </p:cNvPr>
          <p:cNvSpPr/>
          <p:nvPr/>
        </p:nvSpPr>
        <p:spPr>
          <a:xfrm>
            <a:off x="708660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746748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3733920" cy="3708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074600" y="434340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79400" y="434340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175248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3" action="ppaction://hlinksldjump"/>
          </p:cNvPr>
          <p:cNvSpPr/>
          <p:nvPr/>
        </p:nvSpPr>
        <p:spPr>
          <a:xfrm>
            <a:off x="601992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723888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739152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Classic Children's Books - The Complete Adventures of Curious George"/>
          <p:cNvPicPr/>
          <p:nvPr/>
        </p:nvPicPr>
        <p:blipFill>
          <a:blip r:embed="rId1"/>
          <a:stretch/>
        </p:blipFill>
        <p:spPr>
          <a:xfrm>
            <a:off x="2895480" y="304920"/>
            <a:ext cx="3179880" cy="3962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921960" y="449568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55720" y="449568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167652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61722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53341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Realism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tory about something tha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ould happ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real lif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324480" y="4038480"/>
            <a:ext cx="2210040" cy="1608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352680" y="4038480"/>
            <a:ext cx="2362320" cy="1490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2209680" cy="124164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7724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4762440" cy="3619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074600" y="446724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55720" y="441972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4100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Wonderful Job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2585880" cy="31240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3276360" cy="23288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152388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1447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56386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’re finished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Fantas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tory about something that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ould not happ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in real life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1699920" cy="1863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429000" y="4038480"/>
            <a:ext cx="1905120" cy="168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095880" y="411480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07732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Directions: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ok at the book cover and decide whether the story is realistic or fantasy.  Click on the button under the answer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797120" cy="1231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1881360" cy="187164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125880" cy="3810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21960" y="4495680"/>
            <a:ext cx="23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27120" y="4495680"/>
            <a:ext cx="21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175248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5943600" y="54100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046400" cy="39733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888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638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Try Again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09880" cy="3670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920" y="5410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ok at the title and picture on the cover clos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7620120" y="54864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340080" cy="4114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90720" y="46483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4648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160020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586728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Tahoma"/>
              </a:rPr>
              <a:t>You are Correct!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46760" cy="3973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10640" y="5638680"/>
            <a:ext cx="60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go to the next sli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7391520" y="563868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21:27:53Z</dcterms:created>
  <dc:creator>Lisa Mahoney</dc:creator>
  <dc:description/>
  <dc:language>en-US</dc:language>
  <cp:lastModifiedBy>Beth Ann</cp:lastModifiedBy>
  <dcterms:modified xsi:type="dcterms:W3CDTF">2009-04-13T00:54:37Z</dcterms:modified>
  <cp:revision>23</cp:revision>
  <dc:subject/>
  <dc:title>Realism and Fantasy</dc:title>
</cp:coreProperties>
</file>